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146-012F-495A-B5AC-632D6C94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0EB-44BC-4BAD-906F-FCF617CC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EB4-3D9F-43D1-9CDE-321FCF28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A5A-4FED-471E-812E-91F0A25F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364-373F-4F55-8F7B-8615B85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E24-171E-4628-A6D2-91451955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396-10D6-4BC1-ACA9-2D615A52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85A-FE04-4CAB-9553-F2FB4D31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F93-38AB-4817-90E8-17AF1395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17F-547B-44BB-BD40-346C16C1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D75-2235-4BD9-B983-693E52D1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26A-58EA-4729-8348-6B781066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DA9-90D0-4293-AD38-1AB9D8EF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99cc00"/>
                </a:solidFill>
                <a:latin typeface="Gill Sans Ultra Bold"/>
              </a:rPr>
              <a:t>Frog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it 4*Week 3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ntence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I went straight to my room, but I couldn’t find my pap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</a:rPr>
              <a:t>I will build a fence around the tomato pla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Ultra Bold"/>
              </a:rPr>
              <a:t>I love to set a good example, so I will donate this little b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Mother put the baby in the cradle by the trundle b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Father said, “Put the broken candle on the tabl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20:59:52Z</dcterms:created>
  <dc:creator>llefever</dc:creator>
  <dc:description/>
  <dc:language>en-US</dc:language>
  <cp:lastModifiedBy>teacher</cp:lastModifiedBy>
  <dcterms:modified xsi:type="dcterms:W3CDTF">2011-01-19T00:44:44Z</dcterms:modified>
  <cp:revision>3</cp:revision>
  <dc:subject/>
  <dc:title>Fro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4225175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